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344-8C63-4470-BE42-D33F2B5E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433-6C62-453A-8858-58EB1372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DED-4249-437B-9EB7-F07A6899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E00-4EDF-4B0F-AA7A-9E25BFD4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063B-A0CB-4CEF-859B-25DFAEF7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ACF-DE77-42F2-BB2E-B5C32AC4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3F96-C037-472B-A999-DB85250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BF4-BC89-40B7-8485-2BC8538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5381-CD60-4721-8399-6D79E52A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CC9B-4EE0-4619-A6E6-C2DFEB01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C5DE-6D58-4925-80B5-1DC2AC4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3F9-2B29-4121-A915-31F65E67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97A-0D7B-4365-B46B-155A85D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5DCA-454D-455D-B4F5-F1AEC812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F449-26AE-4AEC-BC39-F1FA2598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0C62-31FA-49BC-A5B5-67E1F0C2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74EF-C80B-456B-BE7A-4C371AAA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191-2B7A-4CCF-8772-76B05432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8EC-D68B-4A51-9403-72AB545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360-F75E-41F4-845A-7BC422A3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129-EDC4-456D-A671-AB0B5040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B73-AC2E-4710-9925-1BAC751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2FC-4EA1-4F8C-ACC6-B852461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4EE-6C86-4A84-A6AF-CE292FD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3B7B-3F75-4DA7-8185-17FAA3C3D0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622-CDFA-4C00-A041-10DB0F60B14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nre: a distinctive category of literary composi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terature Genre: marked by distinctive style, form and content. One is just right for YOU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ste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revolves around a puzzle/probl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aracters deal with the solution to a puzzle/problem, such 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inding a missing item/pers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raveling a secre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tionalize an event that is not explain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ains clues/hints that help the characters and readers solve the puzzle/probl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lkta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ry that teaches a less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ain the beliefs and customs of a region or count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riginal story is modified to make it more interesting or more humoro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sent larger-than-life characters and very unusual happen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b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ype of folkta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ds in a moral or less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are animals that talk and act like huma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character usually represents a single human characteristic, such as a fox being symbolic of a tricks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ge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ries written about a real life hero and his/her mighty d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x of fiction and historical facts that have been creatively altered to encourage moral conduct and right choi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aves questions/wonder in the reader’s minds (Did Mike Fink really wrestle a grizzly bear?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th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rtains to the actions of the gods and/or goddess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are super-natural beings with human emotions and qual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lot may involve interplay between worlds (this world and previous/original world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ass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melessness: enjoyed by readers from generation to gener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als with universal themes and experiences that relate to readers, such a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ve conquers al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ood vs. ev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gs to rich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municates ideas across cultur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forgettable charact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e You for Re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N-FICTION: real, factual, deals with actual people, places, and ev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CTION: unreal, not true, not factual, a made up sto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i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ry of a real person’s li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nonfiction (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ios means li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aphe means to wri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thor must do research by interviewing the subject or those who knew the subj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alistic Fi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ccurately reflects life as it could be lived to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thing in the story could happen to real people living in our natural physical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 characters have normal human characterist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may be set in real places, but the story is NOT based on histo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tobi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nonfiction (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of a real person’s lif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to means 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ios means lif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phe means to wri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ritten by the person the story is abou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thor does not need to do researc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thor shares how he/she feels and what he/she thin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ical Fi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sed on historical ev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thentic sett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portrayed in realistic mann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 characters may be actual people from history, but the story is fiction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tistic mix of fiction and historical fa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cience Fi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ains some sort of scientific element, such 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uter spa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thin the realm of possibi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have some believable traits/qual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8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9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95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17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21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ntas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ains one or more of the following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pernatural occurren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aracters with magical pow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ngs with magical pow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imals with human characterist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al people in fantastic pla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ntastic creatures or characters in real situ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gh Fantas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re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od vs. evil (supernatural/evil force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written in a series of books/ volum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- of- age them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lude fantastical elements, such a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ves and dwarv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izar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vented languag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s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5:26:26Z</dcterms:created>
  <dc:creator>NEISD</dc:creator>
  <dc:description/>
  <dc:language>en-US</dc:language>
  <cp:lastModifiedBy>Evelyn Lugo Morales</cp:lastModifiedBy>
  <dcterms:modified xsi:type="dcterms:W3CDTF">2010-09-20T19:01:59Z</dcterms:modified>
  <cp:revision>5</cp:revision>
  <dc:subject/>
  <dc:title>Types of Genre</dc:title>
</cp:coreProperties>
</file>